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B14-A165-461A-A0B3-58F3BE32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A9A-2EFE-4A65-96EC-06EF07D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1FB-5AE3-4FAB-B8C1-933C98F8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50F-00B3-4715-B8FA-225AD735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F8422-0A01-489A-9298-B5C9F343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EE548-03CC-47A6-9CA5-D4BC86BD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85FA0-AD33-42B6-B393-DCB867B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F433E-3EAC-4487-9D38-754C4BA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B8F26-F6CE-4C87-8C87-1770E50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1A58-A168-46CB-A16A-77ACD1A6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F8232-A64A-48DD-AE92-D6CB7D4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EE1-2B70-4525-BE2E-15650BD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B974D-88F8-4168-9009-EC9F8D3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47B19-7F6A-484B-98CA-AD671E3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96776-D7E9-485F-95AE-73AE2D2E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27F0-ED9B-4B50-83BB-19EFBD7A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3F496-F036-40D6-AC85-07C15FE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646-9E6B-497F-8D22-C4174BF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FF1-347F-4E85-8C2F-1388547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8F4-AB61-4D57-A94E-77102116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339-03AF-4506-A083-3ECCF2C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FC5-3A1D-417B-94DC-312EAC6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4E8-923A-4FAB-82D9-EB01AD9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B4E-B90B-4CC0-9105-0403C19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34E-05C8-46BE-8001-EB93E5182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248-3257-4B6C-9F69-94BD6BCEED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c00"/>
                </a:solidFill>
                <a:latin typeface="Tahoma"/>
              </a:rPr>
              <a:t>«Наш великий русский язык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Учитель: Шевырева В.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Tahoma"/>
              </a:rPr>
              <a:t>«Слово-змейк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3640" y="206064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(адрес–салют–тетрадь–деревня–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Фразеологизмы</a:t>
            </a: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 – устойчивые выражения, в которых слова не меняются, но их можно объясн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Tahoma"/>
              </a:rPr>
              <a:t>Словарный диктан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c00"/>
                </a:solidFill>
                <a:latin typeface="Tahoma"/>
              </a:rPr>
              <a:t>Учимся </a:t>
            </a:r>
            <a:br>
              <a:rPr sz="7200"/>
            </a:br>
            <a:r>
              <a:rPr b="1" i="1" lang="ru-RU" sz="7200" spc="-1" strike="noStrike">
                <a:solidFill>
                  <a:srgbClr val="ffcc00"/>
                </a:solidFill>
                <a:latin typeface="Tahoma"/>
              </a:rPr>
              <a:t>писать стих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cc00"/>
                </a:solidFill>
                <a:latin typeface="Tahoma"/>
              </a:rPr>
              <a:t>???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«Учите русский – годы кряду,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С душой, с усердием, с умом!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Вас ждет великая награда,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И та награда – в нем самом».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                    (Сабир Абдулл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Настя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«Мы отвечаем дружн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И здесь сомнений нет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Сегодня будет дружб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ладычицей побед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2349360"/>
            <a:ext cx="882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600"/>
                </a:solidFill>
                <a:uFillTx/>
                <a:latin typeface="Tahoma"/>
              </a:rPr>
              <a:t>Никита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«И пусть острей кипит борьба</a:t>
            </a:r>
            <a:br>
              <a:rPr sz="3200"/>
            </a:b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идет соревнование</a:t>
            </a:r>
            <a:br>
              <a:rPr sz="3200"/>
            </a:b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Успех решает не судьба</a:t>
            </a:r>
            <a:br>
              <a:rPr sz="3200"/>
            </a:b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А только наши знания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50920" y="4365720"/>
            <a:ext cx="8713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cc"/>
                </a:solidFill>
                <a:uFillTx/>
                <a:latin typeface="Tahoma"/>
              </a:rPr>
              <a:t>Полина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: «Но соревнуясь вместе с Вами</a:t>
            </a:r>
            <a:br>
              <a:rPr sz="3200"/>
            </a:b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Мы останемся друзьями</a:t>
            </a:r>
            <a:br>
              <a:rPr sz="3200"/>
            </a:b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Пусть борьба кипит сильней</a:t>
            </a:r>
            <a:br>
              <a:rPr sz="3200"/>
            </a:b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Наша дружба крепнет в не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Угадай название нашей коман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Tahoma"/>
              </a:rPr>
              <a:t>Имя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ffcc00"/>
                </a:solidFill>
                <a:latin typeface="Tahoma"/>
              </a:rPr>
              <a:t>существительно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00"/>
                </a:solidFill>
                <a:latin typeface="Tahoma"/>
              </a:rPr>
              <a:t>Глагол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Название вашей коман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Определите части ре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Tahoma"/>
              </a:rPr>
              <a:t>Отгадайте загадку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18:17Z</dcterms:created>
  <dc:creator>User</dc:creator>
  <dc:description/>
  <dc:language>en-US</dc:language>
  <cp:lastModifiedBy>Учитель</cp:lastModifiedBy>
  <dcterms:modified xsi:type="dcterms:W3CDTF">2011-01-14T12:01:42Z</dcterms:modified>
  <cp:revision>32</cp:revision>
  <dc:subject/>
  <dc:title>Слайд 1</dc:title>
</cp:coreProperties>
</file>